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EE03-F4F6-4F93-B533-AA80D9E0A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8F82-D3BF-425D-B89E-A2BCB2884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56A-79DC-4FE7-B36E-70D96FAF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0072-7AEE-4218-BB29-B27E707E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F4B-4C9C-4996-A377-A0563C63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9D7-9504-4EEA-A82C-9FDA616D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C3E4-C5F2-4599-A2ED-7514BB41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B97-4706-4866-817D-A9A47F06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BBE5-CB13-4A21-9634-FC790E1A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6D5F-CBEA-4203-B4D1-5C8792E0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0DD-81D2-4296-BCBD-AF8FFBCB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EBF-516D-4B46-9CDC-AA0F31D0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CE2-72FB-4061-A1D5-6B29C91F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4371-72B0-41A2-8B5A-90BFDC0F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E675-95D8-4747-ACC0-4D73C1DB0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lorence P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nombre es Florence, yo vivo en la South side  de  Brooklyn. Yo soy catorce ano y tiengo uno hermano y duce hermanas. Soy como feliz, and loca. Adios amigo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 Buenas dia amigas como esta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8:25:39Z</dcterms:modified>
  <cp:revision>105</cp:revision>
  <dc:subject/>
  <dc:title>Profile</dc:title>
</cp:coreProperties>
</file>